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3E84-8EF0-4DE0-8FF0-AA2DEB88A40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80B9-2850-4D88-B6A1-2B1F95ECACD7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B455-5718-45E6-B8CE-D3F77E83B4D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2D0D-F89A-4B70-92F3-F9C392051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D8FF-1318-4373-96E8-3E71CB05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369C-59AE-4D57-9EDD-0D1AFD11F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1986-A18F-4469-82BC-381D0378C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8D5B-A65A-4B52-804C-3B3F3D76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E402-981C-4C91-9C99-B3FD10D2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C080-F07F-40A9-B505-175E5761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78B1-93E1-4B0A-B7C6-A2DAD02F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CE3F-444F-4579-B94F-52507D8B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2B25-1727-447E-8ECC-EE053BC2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4C38-FBF0-4223-934F-D06D8BB8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2DE7-C555-47EA-A1AB-807F69D7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752F-B507-410D-981D-B37D38A1BD7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그림 1" descr=""/>
          <p:cNvPicPr/>
          <p:nvPr/>
        </p:nvPicPr>
        <p:blipFill>
          <a:blip r:embed="rId1"/>
          <a:stretch/>
        </p:blipFill>
        <p:spPr>
          <a:xfrm>
            <a:off x="5880240" y="1225440"/>
            <a:ext cx="2477880" cy="4619880"/>
          </a:xfrm>
          <a:prstGeom prst="rect">
            <a:avLst/>
          </a:prstGeom>
          <a:ln w="0">
            <a:noFill/>
          </a:ln>
        </p:spPr>
      </p:pic>
      <p:pic>
        <p:nvPicPr>
          <p:cNvPr id="62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3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5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직사각형 29"/>
          <p:cNvSpPr/>
          <p:nvPr/>
        </p:nvSpPr>
        <p:spPr>
          <a:xfrm>
            <a:off x="0" y="422280"/>
            <a:ext cx="4406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69920" y="996840"/>
            <a:ext cx="4533840" cy="31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- 435*316*113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1.5</a:t>
            </a: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층 침대용 철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BODY : 15x35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20x20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사각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/ 1.6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직선 연결선 32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33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LADDER &lt;DIL3004B-1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인용 사다리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선 연결선 34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사각형 3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1:16Z</dcterms:modified>
  <cp:revision>254</cp:revision>
  <dc:subject/>
  <dc:title>슬라이드 1</dc:title>
</cp:coreProperties>
</file>